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E00-D483-448B-B7D2-5289990D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7A8-94ED-4B3F-B2F8-EA38B9D2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6E4-0E45-45A2-9953-2FDC0A89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434-0688-4D5A-84D5-B45C6475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1C2-87DA-4E4D-A922-97B52995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329-6F66-45EB-91E4-6576D11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53B-0AF0-40CA-833C-D9F2D5E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8886-CBA9-48AD-8DD0-32A9413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8C42-0AB9-4270-8F60-5D181E1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923-D8AD-416C-AB16-11B2155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18F-E05E-4AE7-8C34-2B8B002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8F7-D4C6-4F50-9CE7-E56682A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E53-CBF3-4815-9C82-5CF3F9E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ABEF-22B2-4CE5-855B-B3329E4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0125-C1CA-4CA2-83E4-A04D0A40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7749-2C08-4D57-9C7C-E5C80261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FA0-1B1D-4853-BDD6-3F0AEC5F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3CD-19A0-47B8-97CD-BEF3E5D5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3BC-1B67-441D-877F-3991152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753-88F7-4CBB-8A01-19F5ACA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B8B-9FD3-4103-B2B1-80849829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BC8-4D4A-4777-B395-E2D6801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242-D97C-4D08-B9F8-9E9D0C3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898-031D-448D-A97A-885321B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DD96-D75E-4651-9AEE-13734E7E7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6161-5846-43EE-951E-E2B54AAA7AC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Lower Elementary Reading Group Big Idea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ara, Chandra, Allison, Tracy, and Kristi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utman Boo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rs and readers who struggle need...demonstrations, scaffolding, writing choices, one-on-one conferences, all customized to fit their specific needs and interests to focus on the process of writing for real readers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we choose to celebrate sends a message about what we valu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icit instruction goes hand in hand with meaningful teach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sting change depends on strong leadership, not just from the principal but from teachers,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K YOURSELF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question we need to be asking is,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ow can I teach writing so that all students become effective and joyful writers and communicators?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t,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hat does the best writing program look like?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hat skills should I be teaching?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 Closing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ose your door and write what's in your mind and hear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4" descr="MCj04382210000[1]"/>
          <p:cNvPicPr/>
          <p:nvPr/>
        </p:nvPicPr>
        <p:blipFill>
          <a:blip r:embed="rId1"/>
          <a:stretch/>
        </p:blipFill>
        <p:spPr>
          <a:xfrm>
            <a:off x="3581280" y="4267080"/>
            <a:ext cx="19144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11:05Z</dcterms:created>
  <dc:creator>Registered User</dc:creator>
  <dc:description/>
  <dc:language>en-US</dc:language>
  <cp:lastModifiedBy>Registered User</cp:lastModifiedBy>
  <dcterms:modified xsi:type="dcterms:W3CDTF">2009-07-07T19:35:29Z</dcterms:modified>
  <cp:revision>3</cp:revision>
  <dc:subject/>
  <dc:title>Lower Elementary Reading Group Big Ideas</dc:title>
</cp:coreProperties>
</file>